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AF3-2B14-4299-9278-5D64E65E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C9E4-48D4-428D-8800-10FAC993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E9DF-3F87-461C-AE2E-FC5AABF6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C358-956B-41DD-920A-54C97EFB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3702-4488-4B3C-AEAE-8F6B31C9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BFC-ED14-43E9-B52A-ACA7E27D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DB7E-0DCB-4545-A412-17000C98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8566-0ADE-4BB5-B791-B346F617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7F99-FCDD-497D-9681-CCED8B27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909D-9B8D-40FE-93A2-44829898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996D-ABA3-4300-BB5F-43BAE02C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0B0C-BF33-428C-AC47-0C940D30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3456A5-6329-4645-9390-6085BE0D1D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93600" y="143352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2   School in Can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95920" y="3322440"/>
            <a:ext cx="1019160" cy="110160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2693880" y="4079880"/>
            <a:ext cx="617724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"/>
          <p:cNvSpPr/>
          <p:nvPr/>
        </p:nvSpPr>
        <p:spPr>
          <a:xfrm>
            <a:off x="988920" y="127332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put an apple ________ the right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fro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3365640" y="2292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132" name="矩形 21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Box 4"/>
          <p:cNvSpPr/>
          <p:nvPr/>
        </p:nvSpPr>
        <p:spPr>
          <a:xfrm>
            <a:off x="1033560" y="3792600"/>
            <a:ext cx="715320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6"/>
          <p:cNvSpPr/>
          <p:nvPr/>
        </p:nvSpPr>
        <p:spPr>
          <a:xfrm>
            <a:off x="1908000" y="3776760"/>
            <a:ext cx="63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put… for…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表达“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代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……”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，这里表示用苹果代表正确答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"/>
          <p:cNvSpPr/>
          <p:nvPr/>
        </p:nvSpPr>
        <p:spPr>
          <a:xfrm>
            <a:off x="517680" y="1398600"/>
            <a:ext cx="808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我的日常。看表格，用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lway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fte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ometime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ever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填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__________ make breakfast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he mor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___________do my home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___________clean the bed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___________wash the dishes 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___________ play cards with my fri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139" name="矩形 18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Picture 16" descr=""/>
          <p:cNvPicPr/>
          <p:nvPr/>
        </p:nvPicPr>
        <p:blipFill>
          <a:blip r:embed="rId2"/>
          <a:stretch/>
        </p:blipFill>
        <p:spPr>
          <a:xfrm>
            <a:off x="4968720" y="2330280"/>
            <a:ext cx="3992760" cy="2848320"/>
          </a:xfrm>
          <a:prstGeom prst="rect">
            <a:avLst/>
          </a:prstGeom>
          <a:ln w="0">
            <a:noFill/>
          </a:ln>
        </p:spPr>
      </p:pic>
      <p:sp>
        <p:nvSpPr>
          <p:cNvPr id="142" name="矩形 2"/>
          <p:cNvSpPr/>
          <p:nvPr/>
        </p:nvSpPr>
        <p:spPr>
          <a:xfrm>
            <a:off x="1423800" y="212868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ome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1651320" y="31813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1707840" y="37544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1744200" y="43196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1667520" y="540396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48" name="TextBox 3"/>
          <p:cNvSpPr/>
          <p:nvPr/>
        </p:nvSpPr>
        <p:spPr>
          <a:xfrm>
            <a:off x="1009800" y="1346040"/>
            <a:ext cx="713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1033560" y="2933640"/>
            <a:ext cx="7637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单词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lways, sometimes, often, 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短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ut…fo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often clean the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ut sometimes I ride my b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53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55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" descr=""/>
          <p:cNvPicPr/>
          <p:nvPr/>
        </p:nvPicPr>
        <p:blipFill>
          <a:blip r:embed="rId2"/>
          <a:stretch/>
        </p:blipFill>
        <p:spPr>
          <a:xfrm>
            <a:off x="1387440" y="1457280"/>
            <a:ext cx="6464160" cy="40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文本框 8" descr=""/>
          <p:cNvPicPr/>
          <p:nvPr/>
        </p:nvPicPr>
        <p:blipFill>
          <a:blip r:embed="rId1"/>
          <a:stretch/>
        </p:blipFill>
        <p:spPr>
          <a:xfrm>
            <a:off x="1779480" y="249120"/>
            <a:ext cx="5829480" cy="64944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819000" y="1235160"/>
            <a:ext cx="7742520" cy="52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r. Wood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, let’s get to work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i Ming, do you do your homewor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i Mi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alway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Mr. Wood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Good ! Let’s put an A for al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Mr. Wood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Jenny, do you help your moth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Jenny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Yes. I often clean the flo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Mr. Wood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put an O for of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Mr. Wood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teven, do you walk to schoo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teve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sometimes. But sometimes I ride my b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Mr. Wood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put an S for some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Mr. Wood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nny, do you wear dresse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nny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o!! I never wear dress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Mr. Wood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kay. Let’s put an N for ne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6" name="文本框 17"/>
          <p:cNvSpPr/>
          <p:nvPr/>
        </p:nvSpPr>
        <p:spPr>
          <a:xfrm>
            <a:off x="3525120" y="1562040"/>
            <a:ext cx="385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lways /ɔːlweɪz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v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总是；永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 18"/>
          <p:cNvSpPr/>
          <p:nvPr/>
        </p:nvSpPr>
        <p:spPr>
          <a:xfrm>
            <a:off x="1351080" y="168120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9"/>
          <p:cNvSpPr/>
          <p:nvPr/>
        </p:nvSpPr>
        <p:spPr>
          <a:xfrm>
            <a:off x="1674720" y="167148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2673360" y="2265480"/>
            <a:ext cx="599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always go to work by car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经常乘轿车去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9" descr="book.gif"/>
          <p:cNvPicPr/>
          <p:nvPr/>
        </p:nvPicPr>
        <p:blipFill>
          <a:blip r:embed="rId2"/>
          <a:stretch/>
        </p:blipFill>
        <p:spPr>
          <a:xfrm>
            <a:off x="609480" y="155412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73" name="矩形 1"/>
          <p:cNvSpPr/>
          <p:nvPr/>
        </p:nvSpPr>
        <p:spPr>
          <a:xfrm>
            <a:off x="1879200" y="2532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"/>
          <p:cNvSpPr/>
          <p:nvPr/>
        </p:nvSpPr>
        <p:spPr>
          <a:xfrm>
            <a:off x="1904400" y="3957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"/>
          <p:cNvSpPr/>
          <p:nvPr/>
        </p:nvSpPr>
        <p:spPr>
          <a:xfrm>
            <a:off x="1686960" y="4762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义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"/>
          <p:cNvSpPr/>
          <p:nvPr/>
        </p:nvSpPr>
        <p:spPr>
          <a:xfrm>
            <a:off x="2695680" y="3708360"/>
            <a:ext cx="610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动作重复、状态继续，中间没有间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"/>
          <p:cNvSpPr/>
          <p:nvPr/>
        </p:nvSpPr>
        <p:spPr>
          <a:xfrm>
            <a:off x="2711520" y="4513320"/>
            <a:ext cx="386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ev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v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从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17"/>
          <p:cNvSpPr/>
          <p:nvPr/>
        </p:nvSpPr>
        <p:spPr>
          <a:xfrm>
            <a:off x="3010320" y="1341360"/>
            <a:ext cx="2579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put ... for...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用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……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代表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圆角矩形 18"/>
          <p:cNvSpPr/>
          <p:nvPr/>
        </p:nvSpPr>
        <p:spPr>
          <a:xfrm>
            <a:off x="831960" y="139716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1155600" y="1434960"/>
            <a:ext cx="143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1949400" y="1967040"/>
            <a:ext cx="5997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put a line for a river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让我们用线条代表河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9" descr="book.gif"/>
          <p:cNvPicPr/>
          <p:nvPr/>
        </p:nvPicPr>
        <p:blipFill>
          <a:blip r:embed="rId2"/>
          <a:stretch/>
        </p:blipFill>
        <p:spPr>
          <a:xfrm>
            <a:off x="90360" y="127008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86" name="矩形 1"/>
          <p:cNvSpPr/>
          <p:nvPr/>
        </p:nvSpPr>
        <p:spPr>
          <a:xfrm>
            <a:off x="1281240" y="2013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18" descr=""/>
          <p:cNvPicPr/>
          <p:nvPr/>
        </p:nvPicPr>
        <p:blipFill>
          <a:blip r:embed="rId3"/>
          <a:stretch/>
        </p:blipFill>
        <p:spPr>
          <a:xfrm>
            <a:off x="863640" y="2533680"/>
            <a:ext cx="325440" cy="368280"/>
          </a:xfrm>
          <a:prstGeom prst="rect">
            <a:avLst/>
          </a:prstGeom>
          <a:ln w="0">
            <a:noFill/>
          </a:ln>
        </p:spPr>
      </p:pic>
      <p:sp>
        <p:nvSpPr>
          <p:cNvPr id="88" name="矩形 16"/>
          <p:cNvSpPr/>
          <p:nvPr/>
        </p:nvSpPr>
        <p:spPr>
          <a:xfrm>
            <a:off x="1229400" y="2371680"/>
            <a:ext cx="485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1886040" y="2424240"/>
            <a:ext cx="668952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含有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pu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的常用短语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put on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穿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  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You can put on your 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     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你可以穿上你的连衣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put ... on..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放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  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Please put it on the 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       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请把它放在桌子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put ... in ..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放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  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he puts the pen in the 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       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她把钢笔放在盒子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17"/>
          <p:cNvSpPr/>
          <p:nvPr/>
        </p:nvSpPr>
        <p:spPr>
          <a:xfrm>
            <a:off x="2824200" y="1420920"/>
            <a:ext cx="55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ometimes /sʌmtaɪmz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v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有时；间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18"/>
          <p:cNvSpPr/>
          <p:nvPr/>
        </p:nvSpPr>
        <p:spPr>
          <a:xfrm>
            <a:off x="973080" y="1555920"/>
            <a:ext cx="177804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9"/>
          <p:cNvSpPr/>
          <p:nvPr/>
        </p:nvSpPr>
        <p:spPr>
          <a:xfrm>
            <a:off x="1297080" y="15462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2295360" y="2171880"/>
            <a:ext cx="473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metimes I walk to the par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有时我步行去公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9" descr="book.gif"/>
          <p:cNvPicPr/>
          <p:nvPr/>
        </p:nvPicPr>
        <p:blipFill>
          <a:blip r:embed="rId2"/>
          <a:stretch/>
        </p:blipFill>
        <p:spPr>
          <a:xfrm>
            <a:off x="231840" y="142884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98" name="矩形 1"/>
          <p:cNvSpPr/>
          <p:nvPr/>
        </p:nvSpPr>
        <p:spPr>
          <a:xfrm>
            <a:off x="1501200" y="2297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"/>
          <p:cNvSpPr/>
          <p:nvPr/>
        </p:nvSpPr>
        <p:spPr>
          <a:xfrm>
            <a:off x="1526760" y="3564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2317680" y="3457440"/>
            <a:ext cx="61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动作偶尔发生，间隔较大，可以用在句首、句中或句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1"/>
          <p:cNvSpPr/>
          <p:nvPr/>
        </p:nvSpPr>
        <p:spPr>
          <a:xfrm>
            <a:off x="2266920" y="4697280"/>
            <a:ext cx="65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一些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 tim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次，回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some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/>
          <p:cNvSpPr/>
          <p:nvPr/>
        </p:nvSpPr>
        <p:spPr>
          <a:xfrm>
            <a:off x="773640" y="4826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加法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"/>
          <p:cNvSpPr/>
          <p:nvPr/>
        </p:nvSpPr>
        <p:spPr>
          <a:xfrm>
            <a:off x="1308960" y="5614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义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"/>
          <p:cNvSpPr/>
          <p:nvPr/>
        </p:nvSpPr>
        <p:spPr>
          <a:xfrm>
            <a:off x="2333520" y="5365800"/>
            <a:ext cx="59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meti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v./adj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某时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度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文本框 8" descr=""/>
          <p:cNvPicPr/>
          <p:nvPr/>
        </p:nvPicPr>
        <p:blipFill>
          <a:blip r:embed="rId1"/>
          <a:stretch/>
        </p:blipFill>
        <p:spPr>
          <a:xfrm>
            <a:off x="2987640" y="131760"/>
            <a:ext cx="3664080" cy="7826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"/>
          <p:cNvSpPr/>
          <p:nvPr/>
        </p:nvSpPr>
        <p:spPr>
          <a:xfrm>
            <a:off x="1074600" y="1217520"/>
            <a:ext cx="6873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k and wr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1336680" y="2131920"/>
            <a:ext cx="6551640" cy="33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文本框 8" descr=""/>
          <p:cNvPicPr/>
          <p:nvPr/>
        </p:nvPicPr>
        <p:blipFill>
          <a:blip r:embed="rId1"/>
          <a:stretch/>
        </p:blipFill>
        <p:spPr>
          <a:xfrm>
            <a:off x="2987640" y="131760"/>
            <a:ext cx="3664080" cy="7826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1074600" y="1201680"/>
            <a:ext cx="7075800" cy="50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Wang Hong __________ reads 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ng Hong __________watches T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Guo Yang __________ plays computer games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o Yang __________has lunch at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Kim __________wears shor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m__________ goes to the cine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I 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"/>
          <p:cNvSpPr/>
          <p:nvPr/>
        </p:nvSpPr>
        <p:spPr>
          <a:xfrm>
            <a:off x="3292560" y="136836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3"/>
          <p:cNvSpPr/>
          <p:nvPr/>
        </p:nvSpPr>
        <p:spPr>
          <a:xfrm>
            <a:off x="3132720" y="198432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ome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4"/>
          <p:cNvSpPr/>
          <p:nvPr/>
        </p:nvSpPr>
        <p:spPr>
          <a:xfrm>
            <a:off x="3146400" y="25876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3179880" y="325296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2388240" y="38847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/>
          <p:cNvSpPr/>
          <p:nvPr/>
        </p:nvSpPr>
        <p:spPr>
          <a:xfrm>
            <a:off x="2073600" y="446256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ome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/>
          <p:cNvSpPr/>
          <p:nvPr/>
        </p:nvSpPr>
        <p:spPr>
          <a:xfrm>
            <a:off x="1681200" y="51102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ever play computer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9"/>
          <p:cNvSpPr/>
          <p:nvPr/>
        </p:nvSpPr>
        <p:spPr>
          <a:xfrm>
            <a:off x="1700280" y="569736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ometimes go to the cinema.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案不唯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文本框 8" descr=""/>
          <p:cNvPicPr/>
          <p:nvPr/>
        </p:nvPicPr>
        <p:blipFill>
          <a:blip r:embed="rId1"/>
          <a:stretch/>
        </p:blipFill>
        <p:spPr>
          <a:xfrm>
            <a:off x="1946160" y="131760"/>
            <a:ext cx="5778720" cy="7826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1074600" y="1422360"/>
            <a:ext cx="707580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uld you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some    soup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,     thanks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you ok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, I’m sick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it a duc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s,     it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2232000" y="2911320"/>
            <a:ext cx="266760" cy="333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3"/>
          <a:stretch/>
        </p:blipFill>
        <p:spPr>
          <a:xfrm>
            <a:off x="1946160" y="4160880"/>
            <a:ext cx="266760" cy="333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4"/>
          <a:stretch/>
        </p:blipFill>
        <p:spPr>
          <a:xfrm>
            <a:off x="3949560" y="1685880"/>
            <a:ext cx="266760" cy="333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5"/>
          <a:stretch/>
        </p:blipFill>
        <p:spPr>
          <a:xfrm>
            <a:off x="2232000" y="3516480"/>
            <a:ext cx="266760" cy="31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6"/>
          <a:stretch/>
        </p:blipFill>
        <p:spPr>
          <a:xfrm>
            <a:off x="1774800" y="2309760"/>
            <a:ext cx="266760" cy="314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7"/>
          <a:stretch/>
        </p:blipFill>
        <p:spPr>
          <a:xfrm>
            <a:off x="1847880" y="4811760"/>
            <a:ext cx="266760" cy="314280"/>
          </a:xfrm>
          <a:prstGeom prst="rect">
            <a:avLst/>
          </a:prstGeom>
          <a:ln w="0">
            <a:noFill/>
          </a:ln>
        </p:spPr>
      </p:pic>
      <p:sp>
        <p:nvSpPr>
          <p:cNvPr id="126" name="弧形 1"/>
          <p:cNvSpPr/>
          <p:nvPr/>
        </p:nvSpPr>
        <p:spPr>
          <a:xfrm rot="8458800">
            <a:off x="1168200" y="4024080"/>
            <a:ext cx="487080" cy="485640"/>
          </a:xfrm>
          <a:custGeom>
            <a:avLst/>
            <a:gdLst/>
            <a:ahLst/>
            <a:rect l="l" t="t" r="r" b="b"/>
            <a:pathLst>
              <a:path stroke="0" w="487362" h="485775">
                <a:moveTo>
                  <a:pt x="243681" y="0"/>
                </a:moveTo>
                <a:cubicBezTo>
                  <a:pt x="351651" y="0"/>
                  <a:pt x="443220" y="69991"/>
                  <a:pt x="475195" y="166887"/>
                </a:cubicBezTo>
                <a:lnTo>
                  <a:pt x="243681" y="242887"/>
                </a:lnTo>
                <a:close/>
              </a:path>
              <a:path fill="none" w="487362" h="485775">
                <a:moveTo>
                  <a:pt x="243681" y="0"/>
                </a:moveTo>
                <a:cubicBezTo>
                  <a:pt x="351651" y="0"/>
                  <a:pt x="443220" y="69991"/>
                  <a:pt x="475195" y="166887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弧形 18"/>
          <p:cNvSpPr/>
          <p:nvPr/>
        </p:nvSpPr>
        <p:spPr>
          <a:xfrm rot="8458800">
            <a:off x="2109600" y="4649400"/>
            <a:ext cx="487080" cy="485640"/>
          </a:xfrm>
          <a:custGeom>
            <a:avLst/>
            <a:gdLst/>
            <a:ahLst/>
            <a:rect l="l" t="t" r="r" b="b"/>
            <a:pathLst>
              <a:path stroke="0" w="487362" h="485775">
                <a:moveTo>
                  <a:pt x="243681" y="0"/>
                </a:moveTo>
                <a:cubicBezTo>
                  <a:pt x="351651" y="0"/>
                  <a:pt x="443220" y="69991"/>
                  <a:pt x="475195" y="166887"/>
                </a:cubicBezTo>
                <a:lnTo>
                  <a:pt x="243681" y="242887"/>
                </a:lnTo>
                <a:close/>
              </a:path>
              <a:path fill="none" w="487362" h="485775">
                <a:moveTo>
                  <a:pt x="243681" y="0"/>
                </a:moveTo>
                <a:cubicBezTo>
                  <a:pt x="351651" y="0"/>
                  <a:pt x="443220" y="69991"/>
                  <a:pt x="475195" y="166887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3T13:53:06Z</dcterms:modified>
  <cp:revision>63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